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697800" cy="346392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539640" y="549360"/>
            <a:ext cx="79218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What is ‘Development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11280" y="1197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.O. To understand what the term development means and be able to write our own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6516720" y="1989000"/>
            <a:ext cx="2244600" cy="299880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-331560" y="1989000"/>
            <a:ext cx="4128840" cy="3409200"/>
            <a:chOff x="-331560" y="1989000"/>
            <a:chExt cx="4128840" cy="3409200"/>
          </a:xfrm>
        </p:grpSpPr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576360" y="198900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 rot="20352000">
              <a:off x="0" y="278064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1511280" y="263664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826920" y="5516640"/>
            <a:ext cx="7345440" cy="703800"/>
          </a:xfrm>
          <a:prstGeom prst="rect">
            <a:avLst/>
          </a:prstGeom>
          <a:solidFill>
            <a:srgbClr val="ff99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ite down four countries you think are wealthy and four countries you consider to be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0160" y="549360"/>
            <a:ext cx="8669880" cy="6186240"/>
            <a:chOff x="20160" y="549360"/>
            <a:chExt cx="8669880" cy="6186240"/>
          </a:xfrm>
        </p:grpSpPr>
        <p:sp>
          <p:nvSpPr>
            <p:cNvPr id="47" name=""/>
            <p:cNvSpPr/>
            <p:nvPr/>
          </p:nvSpPr>
          <p:spPr>
            <a:xfrm>
              <a:off x="611280" y="1628640"/>
              <a:ext cx="792000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 </a:t>
              </a:r>
              <a:r>
                <a:rPr b="0" lang="en-GB" sz="2400" spc="-1" strike="noStrike">
                  <a:solidFill>
                    <a:srgbClr val="ff0066"/>
                  </a:solidFill>
                  <a:latin typeface="Comic Sans MS"/>
                </a:rPr>
                <a:t>wealthier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the country, the more it can normally provide for its people so the </a:t>
              </a:r>
              <a:r>
                <a:rPr b="0" lang="en-GB" sz="2400" spc="-1" strike="noStrike">
                  <a:solidFill>
                    <a:srgbClr val="ff0066"/>
                  </a:solidFill>
                  <a:latin typeface="Comic Sans MS"/>
                </a:rPr>
                <a:t>more developed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t i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 </a:t>
              </a:r>
              <a:r>
                <a:rPr b="0" lang="en-GB" sz="2400" spc="-1" strike="noStrike">
                  <a:solidFill>
                    <a:srgbClr val="ff0066"/>
                  </a:solidFill>
                  <a:latin typeface="Comic Sans MS"/>
                </a:rPr>
                <a:t>poorer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the country, the less it can normally provide for its people so the </a:t>
              </a:r>
              <a:r>
                <a:rPr b="0" lang="en-GB" sz="2400" spc="-1" strike="noStrike">
                  <a:solidFill>
                    <a:srgbClr val="ff0066"/>
                  </a:solidFill>
                  <a:latin typeface="Comic Sans MS"/>
                </a:rPr>
                <a:t>less developed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t normally i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549360"/>
              <a:ext cx="7920000" cy="825480"/>
            </a:xfrm>
            <a:prstGeom prst="rect">
              <a:avLst/>
            </a:prstGeom>
            <a:solidFill>
              <a:srgbClr val="ff99ff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very country around the World provides its people with different thing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556000" y="4365720"/>
              <a:ext cx="41767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804000" y="3860640"/>
              <a:ext cx="1886040" cy="25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20160" y="4365720"/>
              <a:ext cx="2857680" cy="2369880"/>
              <a:chOff x="20160" y="4365720"/>
              <a:chExt cx="2857680" cy="2369880"/>
            </a:xfrm>
          </p:grpSpPr>
          <p:pic>
            <p:nvPicPr>
              <p:cNvPr id="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9440" y="4365720"/>
                <a:ext cx="1581480" cy="159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4"/>
              <a:stretch/>
            </p:blipFill>
            <p:spPr>
              <a:xfrm rot="20352000">
                <a:off x="250920" y="4916520"/>
                <a:ext cx="1581480" cy="159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96360" y="4816080"/>
                <a:ext cx="1581480" cy="159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042920" y="692280"/>
            <a:ext cx="7345440" cy="5154480"/>
            <a:chOff x="1042920" y="692280"/>
            <a:chExt cx="7345440" cy="515448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042920" y="2133720"/>
              <a:ext cx="253044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80000" y="692280"/>
              <a:ext cx="4608360" cy="2447640"/>
            </a:xfrm>
            <a:prstGeom prst="wedgeEllipseCallout">
              <a:avLst>
                <a:gd name="adj1" fmla="val -64986"/>
                <a:gd name="adj2" fmla="val 72439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Berlin Sans FB"/>
                </a:rPr>
                <a:t>But  money isn’t everything is it?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250960" y="1989000"/>
            <a:ext cx="1481760" cy="1182600"/>
            <a:chOff x="5250960" y="1989000"/>
            <a:chExt cx="1481760" cy="11826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5571720" y="1989000"/>
              <a:ext cx="82404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 rot="20352000">
              <a:off x="5364000" y="2262240"/>
              <a:ext cx="82404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5908680" y="2212200"/>
              <a:ext cx="824040" cy="78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76280"/>
            <a:ext cx="8207280" cy="4108320"/>
          </a:xfrm>
          <a:prstGeom prst="rect">
            <a:avLst/>
          </a:prstGeom>
          <a:solidFill>
            <a:srgbClr val="ff99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a chance for us all to reach our full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freedom from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the chance to live a long and healthy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having the chance to earn a good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change for the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the chance of getting a goo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justice for ever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a more equal soci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eans finding ways to live more environmentally frien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108080" cy="1625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63640" y="5084640"/>
            <a:ext cx="6840720" cy="1008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t the above sentences in order of which you think is the most to the least important to improve people’s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484280"/>
            <a:ext cx="792144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860640"/>
            <a:ext cx="727236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4148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4148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ast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549360"/>
            <a:ext cx="7775280" cy="703800"/>
          </a:xfrm>
          <a:prstGeom prst="rect">
            <a:avLst/>
          </a:prstGeom>
          <a:solidFill>
            <a:srgbClr val="ff99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ook at the countries on your handout and put them along the line from which you think are the most to the least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33920" y="1026000"/>
            <a:ext cx="3142080" cy="2134440"/>
            <a:chOff x="-133920" y="1026000"/>
            <a:chExt cx="3142080" cy="213444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 rot="431400">
              <a:off x="1500120" y="1111320"/>
              <a:ext cx="144000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 flipH="1" rot="19630200">
              <a:off x="104400" y="1570320"/>
              <a:ext cx="144000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6732720" y="2924280"/>
            <a:ext cx="1296720" cy="647640"/>
          </a:xfrm>
          <a:prstGeom prst="wedgeEllipseCallout">
            <a:avLst>
              <a:gd name="adj1" fmla="val -52814"/>
              <a:gd name="adj2" fmla="val 8161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4221000"/>
            <a:ext cx="1871640" cy="648000"/>
          </a:xfrm>
          <a:prstGeom prst="wedgeEllipseCallout">
            <a:avLst>
              <a:gd name="adj1" fmla="val -54833"/>
              <a:gd name="adj2" fmla="val -89949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5589720"/>
            <a:ext cx="4032360" cy="576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y going to be evenly spac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1484280"/>
            <a:ext cx="792144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4148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4148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ast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-133920" y="1026000"/>
            <a:ext cx="3142080" cy="2134440"/>
            <a:chOff x="-133920" y="1026000"/>
            <a:chExt cx="3142080" cy="213444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431400">
              <a:off x="1500120" y="1111320"/>
              <a:ext cx="144000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flipH="1" rot="19630200">
              <a:off x="104400" y="1570320"/>
              <a:ext cx="144000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684360" y="549360"/>
            <a:ext cx="7775280" cy="398880"/>
          </a:xfrm>
          <a:prstGeom prst="rect">
            <a:avLst/>
          </a:prstGeom>
          <a:solidFill>
            <a:srgbClr val="ff99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well did you do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3860640"/>
            <a:ext cx="727236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2060640"/>
            <a:ext cx="1512720" cy="647640"/>
          </a:xfrm>
          <a:prstGeom prst="wedgeEllipseCallout">
            <a:avLst>
              <a:gd name="adj1" fmla="val 25972"/>
              <a:gd name="adj2" fmla="val 22181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2781360"/>
            <a:ext cx="1513080" cy="647640"/>
          </a:xfrm>
          <a:prstGeom prst="wedgeEllipseCallout">
            <a:avLst>
              <a:gd name="adj1" fmla="val 72453"/>
              <a:gd name="adj2" fmla="val 10392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4653000"/>
            <a:ext cx="1513080" cy="647640"/>
          </a:xfrm>
          <a:prstGeom prst="wedgeEllipseCallout">
            <a:avLst>
              <a:gd name="adj1" fmla="val 70777"/>
              <a:gd name="adj2" fmla="val -161763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700280"/>
            <a:ext cx="1512720" cy="647640"/>
          </a:xfrm>
          <a:prstGeom prst="wedgeEllipseCallout">
            <a:avLst>
              <a:gd name="adj1" fmla="val 23138"/>
              <a:gd name="adj2" fmla="val 2816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5400" y="4221000"/>
            <a:ext cx="1512720" cy="648000"/>
          </a:xfrm>
          <a:prstGeom prst="wedgeEllipseCallout">
            <a:avLst>
              <a:gd name="adj1" fmla="val 8342"/>
              <a:gd name="adj2" fmla="val -9975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5084640"/>
            <a:ext cx="1513080" cy="648000"/>
          </a:xfrm>
          <a:prstGeom prst="wedgeEllipseCallout">
            <a:avLst>
              <a:gd name="adj1" fmla="val 26074"/>
              <a:gd name="adj2" fmla="val -231861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4221000"/>
            <a:ext cx="1513080" cy="648000"/>
          </a:xfrm>
          <a:prstGeom prst="wedgeEllipseCallout">
            <a:avLst>
              <a:gd name="adj1" fmla="val 16736"/>
              <a:gd name="adj2" fmla="val -95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1512720" cy="647640"/>
          </a:xfrm>
          <a:prstGeom prst="wedgeEllipseCallout">
            <a:avLst>
              <a:gd name="adj1" fmla="val -25027"/>
              <a:gd name="adj2" fmla="val 990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2349360"/>
            <a:ext cx="1512720" cy="648000"/>
          </a:xfrm>
          <a:prstGeom prst="wedgeEllipseCallout">
            <a:avLst>
              <a:gd name="adj1" fmla="val -21879"/>
              <a:gd name="adj2" fmla="val 17009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708280"/>
            <a:ext cx="1513080" cy="647640"/>
          </a:xfrm>
          <a:prstGeom prst="wedgeEllipseCallout">
            <a:avLst>
              <a:gd name="adj1" fmla="val -17472"/>
              <a:gd name="adj2" fmla="val 11764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5013360"/>
            <a:ext cx="1513080" cy="647640"/>
          </a:xfrm>
          <a:prstGeom prst="wedgeEllipseCallout">
            <a:avLst>
              <a:gd name="adj1" fmla="val 41921"/>
              <a:gd name="adj2" fmla="val -2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2205000"/>
            <a:ext cx="1512720" cy="647640"/>
          </a:xfrm>
          <a:prstGeom prst="wedgeEllipseCallout">
            <a:avLst>
              <a:gd name="adj1" fmla="val 995"/>
              <a:gd name="adj2" fmla="val 20196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549360"/>
            <a:ext cx="8136000" cy="398880"/>
          </a:xfrm>
          <a:prstGeom prst="rect">
            <a:avLst/>
          </a:prstGeom>
          <a:solidFill>
            <a:srgbClr val="ff99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we write a definition for what development me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125360"/>
            <a:ext cx="792144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2665440" cy="137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436760" cy="191916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20400" y="4869000"/>
            <a:ext cx="2165400" cy="1603440"/>
            <a:chOff x="320400" y="4869000"/>
            <a:chExt cx="2165400" cy="160344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774360" y="4869000"/>
              <a:ext cx="121464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 rot="20352000">
              <a:off x="468000" y="5234760"/>
              <a:ext cx="121464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1271160" y="5168160"/>
              <a:ext cx="1214640" cy="105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2:09:25Z</dcterms:created>
  <dc:creator>jharper</dc:creator>
  <dc:description/>
  <dc:language>en-US</dc:language>
  <cp:lastModifiedBy>JHARPER</cp:lastModifiedBy>
  <dcterms:modified xsi:type="dcterms:W3CDTF">2007-08-27T08:57:17Z</dcterms:modified>
  <cp:revision>18</cp:revision>
  <dc:subject/>
  <dc:title>Slide 1</dc:title>
</cp:coreProperties>
</file>